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wmf" ContentType="image/x-wmf"/>
  <Override PartName="/ppt/media/image1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05DD-089C-42BE-91C2-1E22008D0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593C-1C24-44A4-A280-68468D73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E817-B2DF-4D2B-9090-D32CDE6A5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9B06-4F51-4B5F-A228-D21007F36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CDE0-87FC-4987-AC08-28FC655B1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3C0D-59B1-4F94-B854-E27B29ED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BE64-3504-44FE-B08A-6B846292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E1AC-3EB9-4CD8-9E06-38E7A458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42B9-620B-478B-AC6E-3032D69C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639B-77C2-4D5D-9282-69FB8EE2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4501-D5E8-401B-ABBB-9F8F5C16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34E0-7881-4308-84A6-4463AAFD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C0CE-D4A0-4695-8653-77D8ACD8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0D3C-66EE-4CB1-B1EC-9A2FE73C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D0EF-B471-4640-9920-7CF504C5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322A-9819-4045-9B73-16A8C69D7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914C-0C48-4637-89BA-92157DC0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F1BD8-ACCF-442E-9C81-45397D92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A538C-309E-4059-A72C-839A038E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3808E-550E-4FB1-97C9-3209DDA8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CCD44-619E-4450-A62D-104B287E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E7E93-9266-42CB-B1A9-AD22ED56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07EF-84EE-4EB5-8ED8-36AB9416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101D9-822C-4F9E-8C8F-85F1960B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AFFC5-3B15-48E6-B642-BA831D42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DAAB0-31C2-4898-B46A-7386AE57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89F83-DE6F-42CD-8914-F6F605F3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2723C-877E-4678-80EC-DB32A29C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8A85E-4E78-4365-9228-638D3C0F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6D9AB-04E3-4763-9661-A8615BC5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0421F-7C4D-45A9-81A1-BAD3F37F2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3E56D-BBC0-43DC-B56C-E7412F95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6F060-D350-43AD-BD70-87F6EE39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AF25-0E55-4F79-A61F-2243B07B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67F5C-EA35-4A88-9E4B-794304F4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A7588-CEDF-498E-BBF4-56EEDE4F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5D3FD-69A2-4D98-AE53-D6B473A4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AEF36-E27A-412B-87E7-6F6925B4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7A046-DDDF-4EA8-980F-3DEB9AAB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D5D33-B20E-4FF3-A565-488BCD13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36EFC-E82B-4C6B-986B-88FC2896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2C992-DC40-4842-9C81-8883C32AC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0AFBB-F38F-41FF-9052-498D465CE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3E34-1E92-4C82-B3AA-24C7DB38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CCC1-19D4-4F9A-9EE3-2FCF75EF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09E8-1503-40A5-ACBF-969094B9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60BE-2AB0-4E4E-BCB1-49CA2196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01BB-85D7-4AE7-8C57-CB9D0E2D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30000">
                  <a:alpha val="45098"/>
                </a:srgbClr>
              </a:gs>
              <a:gs pos="100000">
                <a:srgbClr val="006cd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53a1">
                  <a:alpha val="45098"/>
                </a:srgbClr>
              </a:gs>
              <a:gs pos="100000">
                <a:srgbClr val="d400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5394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b0f0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070c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206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a4f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a4f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a4f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7E9E-8F3E-4BB2-880A-CAC75233DE1A}" type="slidenum">
              <a:rPr b="0" lang="en-US" sz="1200" spc="-1" strike="noStrike">
                <a:solidFill>
                  <a:srgbClr val="0a4f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30000">
                  <a:alpha val="45098"/>
                </a:srgbClr>
              </a:gs>
              <a:gs pos="100000">
                <a:srgbClr val="006cd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53a1">
                  <a:alpha val="45098"/>
                </a:srgbClr>
              </a:gs>
              <a:gs pos="100000">
                <a:srgbClr val="d400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7e2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7e2f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2ac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82ac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2ac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82ac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b0f0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2ac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82ac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070c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2ac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82ac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206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2ac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82ac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82ac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2ac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82ac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82ac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2ac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82ac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ed8e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ed8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ed8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E818-31A5-495D-A07A-BA34835ACAC3}" type="slidenum">
              <a:rPr b="0" lang="en-US" sz="1200" spc="-1" strike="noStrike">
                <a:solidFill>
                  <a:srgbClr val="bed8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30000">
                  <a:alpha val="45098"/>
                </a:srgbClr>
              </a:gs>
              <a:gs pos="100000">
                <a:srgbClr val="006cd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53a1">
                  <a:alpha val="45098"/>
                </a:srgbClr>
              </a:gs>
              <a:gs pos="100000">
                <a:srgbClr val="d400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7e2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7e2f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2ac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82ac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2ac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82ac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b0f0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2ac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82ac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070c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2ac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82ac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206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2ac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82ac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82ac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2ac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82ac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82ac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2ac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82ac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ed8e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ed8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ed8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55F1-F67B-4D13-A064-AA7ABC104703}" type="slidenum">
              <a:rPr b="0" lang="en-US" sz="1200" spc="-1" strike="noStrike">
                <a:solidFill>
                  <a:srgbClr val="bed8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30000">
                  <a:alpha val="45098"/>
                </a:srgbClr>
              </a:gs>
              <a:gs pos="100000">
                <a:srgbClr val="006cd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53a1">
                  <a:alpha val="45098"/>
                </a:srgbClr>
              </a:gs>
              <a:gs pos="100000">
                <a:srgbClr val="d400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5394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b0f0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070c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206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a4f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a4f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a4f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7B3A-7385-462A-9683-044E25CEB295}" type="slidenum">
              <a:rPr b="0" lang="en-US" sz="1200" spc="-1" strike="noStrike">
                <a:solidFill>
                  <a:srgbClr val="0a4f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82acff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5394"/>
                </a:solidFill>
                <a:latin typeface="Calibri"/>
              </a:rPr>
              <a:t>Birth of Interest Groups</a:t>
            </a: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 factor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conomic Develop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overnment Polic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ad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overnment Activ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960s and 1970s: rapid growth in interest grou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 not arise out of natural social proces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5394"/>
                </a:solidFill>
                <a:latin typeface="Calibri"/>
              </a:rPr>
              <a:t>Explaining Proliferation</a:t>
            </a: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asons why interest groups are common in the U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re cleavages = variety of interes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merican constitutional system multiplies the points at which groups can gain access to govern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eakness of political par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2" descr="http://www.clipartguide.com/_small/0512-0801-1418-4009.jpg"/>
          <p:cNvPicPr/>
          <p:nvPr/>
        </p:nvPicPr>
        <p:blipFill>
          <a:blip r:embed="rId1"/>
          <a:stretch/>
        </p:blipFill>
        <p:spPr>
          <a:xfrm>
            <a:off x="1981080" y="4419720"/>
            <a:ext cx="2210040" cy="16938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http://www.school-clipart.com/_small/0512-0712-2813-3735.jpg"/>
          <p:cNvPicPr/>
          <p:nvPr/>
        </p:nvPicPr>
        <p:blipFill>
          <a:blip r:embed="rId2"/>
          <a:stretch/>
        </p:blipFill>
        <p:spPr>
          <a:xfrm>
            <a:off x="5181480" y="4419720"/>
            <a:ext cx="2063880" cy="1733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5394"/>
                </a:solidFill>
                <a:latin typeface="Calibri"/>
              </a:rPr>
              <a:t>Institutional Interests</a:t>
            </a: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rest Group: any organization that seeks to influence public polic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titutional Interests: individuals/organizations representing other organiz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amber of Commer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merican Cotton Manufactur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1" descr="C:\Users\Hannah\AppData\Local\Microsoft\Windows\Temporary Internet Files\Content.IE5\589BTOC0\MC900322635[1].wmf"/>
          <p:cNvPicPr/>
          <p:nvPr/>
        </p:nvPicPr>
        <p:blipFill>
          <a:blip r:embed="rId1"/>
          <a:stretch/>
        </p:blipFill>
        <p:spPr>
          <a:xfrm>
            <a:off x="6095880" y="3657600"/>
            <a:ext cx="2286000" cy="26020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5394"/>
                </a:solidFill>
                <a:latin typeface="Calibri"/>
              </a:rPr>
              <a:t>Membership Interests</a:t>
            </a: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ganizations that support the interests of their memb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stablishes a great sense of civic duty and political efficac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http://www.arthursclipart.org/silhouettes/people/CROWD.gif"/>
          <p:cNvPicPr/>
          <p:nvPr/>
        </p:nvPicPr>
        <p:blipFill>
          <a:blip r:embed="rId1"/>
          <a:stretch/>
        </p:blipFill>
        <p:spPr>
          <a:xfrm>
            <a:off x="3238560" y="3732120"/>
            <a:ext cx="2666880" cy="263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5394"/>
                </a:solidFill>
                <a:latin typeface="Calibri"/>
              </a:rPr>
              <a:t>Membership Incentives</a:t>
            </a: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entive: something of value one cannot get without joining an organiz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lidarity incentives: social rewar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terial Incentives: money/things of monetary val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urposive Incentive: most difficult; benefit from serving a cause or principle; used by ideological interest group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ological Interest Groups: attracts members by appealing to political convictions or princip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ublic-Interest Lobby: principally benefits nonmemb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5394"/>
                </a:solidFill>
                <a:latin typeface="Calibri"/>
              </a:rPr>
              <a:t>Social Movements</a:t>
            </a: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cial Movement: widely shared demand for chan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vironmental Movement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ierra Club (1890s), Wilderness Society (1930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eminist Movemen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 Kinds: Solidarity Incentive, Purposive Incentive, Material Benefi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ague of Women Voters (192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nion Movemen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945: reached peak of membershi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cline caused by economy shift from industrial production and decline in union approv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5394"/>
                </a:solidFill>
                <a:latin typeface="Calibri"/>
              </a:rPr>
              <a:t>Funds for Interest Groups</a:t>
            </a: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 Sources of Money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undation Gra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ederal Gra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rect Mai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mbership organizations have a hard time raising money outside of du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lp fund public-interest lobby grou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1" descr="C:\Users\Hannah\AppData\Local\Microsoft\Windows\Temporary Internet Files\Content.IE5\KP5YIT1L\MC900351741[1].wmf"/>
          <p:cNvPicPr/>
          <p:nvPr/>
        </p:nvPicPr>
        <p:blipFill>
          <a:blip r:embed="rId1"/>
          <a:stretch/>
        </p:blipFill>
        <p:spPr>
          <a:xfrm>
            <a:off x="6705720" y="4648320"/>
            <a:ext cx="1865160" cy="1523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5394"/>
                </a:solidFill>
                <a:latin typeface="Calibri"/>
              </a:rPr>
              <a:t>The Problem of Bias</a:t>
            </a: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rests groups in Washington reflect an upper-class bi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ell-off people more likely to join interest group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re groups representing busines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ew public-interest groups and civil rights/minority groups in Washingt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5:45:34Z</dcterms:created>
  <dc:creator>middleswarthm</dc:creator>
  <dc:description/>
  <dc:language>en-US</dc:language>
  <cp:lastModifiedBy>kluvere</cp:lastModifiedBy>
  <dcterms:modified xsi:type="dcterms:W3CDTF">2012-03-13T01:05:16Z</dcterms:modified>
  <cp:revision>10</cp:revision>
  <dc:subject/>
  <dc:title>Kinds of Interest Groups</dc:title>
</cp:coreProperties>
</file>